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837825"/>
        <c:axId val="37352159"/>
      </c:barChart>
      <c:catAx>
        <c:axId val="698378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52159"/>
        <c:crosses val="autoZero"/>
        <c:auto val="1"/>
        <c:lblAlgn val="ctr"/>
        <c:lblOffset val="100"/>
        <c:noMultiLvlLbl val="0"/>
      </c:catAx>
      <c:valAx>
        <c:axId val="373521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378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9B09-6FEB-4D80-A925-4D9139B47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5A3B-6822-46FF-BA7B-D95F45E5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41BB-4D82-405D-9914-D144A57C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570C-58F4-4C29-A022-90C5F5FD6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2896-8636-423B-835B-32C32E48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1A0-8FBE-44B1-B546-1097C042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1EF3-7F04-443B-A6E2-407F0A90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360E-C757-4E5A-AD40-E424432C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8EAD-7169-464E-B803-D098236B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384E-7234-4C96-8495-BF8C6206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F9A6-A605-41AD-A873-AC1C6DCA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516-E111-431A-81C6-B4D24248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238C0-D1EB-4960-A970-E86DC00D35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