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27732"/>
        <c:axId val="21524933"/>
      </c:barChart>
      <c:catAx>
        <c:axId val="40227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4933"/>
        <c:crosses val="autoZero"/>
        <c:auto val="1"/>
        <c:lblAlgn val="ctr"/>
        <c:lblOffset val="100"/>
        <c:noMultiLvlLbl val="0"/>
      </c:catAx>
      <c:valAx>
        <c:axId val="21524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7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0C4-6C1F-4CEC-8D29-949ACE66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096-3DBC-4111-B37A-7794B3B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699-8270-49F4-8F6E-6C4A6CDB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0E5-94D7-4838-8E58-2ED163C9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653-FE7C-4417-810F-F64B5B5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732-6843-454F-B989-2D25E27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91D-3B3A-471D-BF90-15B6922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7CB-2DC0-4825-B7C2-6BA802B1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802-8F1E-487C-A6A7-CA4CDD5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901-26B5-42FB-87DF-3C054B6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679-FD73-4D10-A13D-455C91C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E78-0852-4D60-821A-73F1FD6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4B65A-2EC9-43DB-ADF0-3C151E6C0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