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00297"/>
        <c:axId val="61701522"/>
      </c:barChart>
      <c:catAx>
        <c:axId val="95200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01522"/>
        <c:crosses val="autoZero"/>
        <c:auto val="1"/>
        <c:lblAlgn val="ctr"/>
        <c:lblOffset val="100"/>
        <c:noMultiLvlLbl val="0"/>
      </c:catAx>
      <c:valAx>
        <c:axId val="61701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00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FD6-8C03-4737-8C99-FA2B9F93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6422-D078-46C4-ACF8-B0B3A654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AEF-3D1D-4033-9A60-2BFEFB6C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2379-A819-4E8A-AA18-B871CC17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2C0-BEA2-474D-A069-DFE2B148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282-1405-4625-B881-7E29A55C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DA6-3893-434A-9F53-569CF109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1E9-784D-4692-9695-3A67AA4B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A40-9824-4578-BF74-1A5166A8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A3F-6E83-46EC-951B-C5309ADB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26F6-3CAD-4D0C-B223-7AA355F8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18E-A7A3-4542-80F0-631EF01A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188AF-6F98-4C94-937A-052BE5F098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